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322-AD7B-4DBE-9555-F6F56890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171-4A24-4710-856A-A2B6C528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517-1455-4B07-A13E-6A2F25B5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8A5-3D2C-4298-8687-E870E9D7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EA8-46D6-48E0-B56A-6B22ABA4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F3D-359F-40A5-9F02-A5A1FBDA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895-427A-406C-8A25-230E508B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773-C257-4CEA-8871-7837D3BF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1A9-7C62-4AA2-9BC6-AB47BAA9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EBE-B866-4F0A-ACC8-64A5802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D09-D7F3-4A67-904B-0A1C49F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C75-22DF-4C98-96CA-CA970140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2807-DF87-4D6B-9660-AABF4C24B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pages 191-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down two fact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Mayor-Counci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ouncil-Manage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Commiss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Special-Purpose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swer questions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584-58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CRCT prep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County Government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(Po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unty government has the power t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 Levy property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 Levy local sale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 Create fines and penalties (traffic tick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. Regulating licenses and per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 Implement usage fees (example: for county par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. Pass laws and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D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s many pictures as possible in your notes that describes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he county taxes provide funding for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County Board of Commissioners: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Governing the Cou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nties are generally governed by a Board of Commissio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ard members are elected to four year terms in of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ard of Commissioners meet at the county seat (the capital of the coun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ard of Commissioners sets levels of government services to be provided by each department of county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oard of Commissioners creates an annual budget, establishes county policies, levies local taxes, and makes laws for the cou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Chairman of the Board is generally the counties’ chief ex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Responsibilities of the Chair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irman has the following responsi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 Appoints department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To carry out policies set by the county com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ointed/Elected Offic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4"/>
          <p:cNvCxnSpPr/>
          <p:nvPr/>
        </p:nvCxnSpPr>
        <p:spPr>
          <a:xfrm>
            <a:off x="4419360" y="1904760"/>
            <a:ext cx="1080" cy="3810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Straight Connector 6"/>
          <p:cNvSpPr/>
          <p:nvPr/>
        </p:nvSpPr>
        <p:spPr>
          <a:xfrm>
            <a:off x="2438280" y="2819520"/>
            <a:ext cx="4114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Elected County Offic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elected county official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Sherif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Coron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Probate Ju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 Court/County Cl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 Commissione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Appointed County Offic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appointed county official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Tax Ass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EMS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Fire Ch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 Building Insp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 County Attor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in 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 Cra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tan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lace your right hand across the body to the left knee as you rais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o the same thing for the left hand on the right knee just as if you were marc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o this for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difference between county and city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paragra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y Govern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 Board &amp; Superinten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embers are elected by vo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oard members appoint a Superintendent of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 Board creates policies for sch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The Superintendent implements these policies through executive or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Write a closed passage (fill in the blank) using the following wo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grand jury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due process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misdemean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felon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criminal Justice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Arial"/>
              </a:rPr>
              <a:t>Arr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ity with its own government is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nicipalit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ties get their permission to operate from the Georgia General Assembly. There are over 600 municipalities in Geo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ing Actions taken by c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viding police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censing of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intenance of str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ffic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ovision of water and sewag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s of City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city governmen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ayor-Counci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uncil Manage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mmissione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 Government: Mayor-Council Form (Strong Execu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ayor-council style of government, the elected city council is responsible for making the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cted mayor acts as the city’s chief executive officer with the responsibility for seeing that the laws are carried out and that city agencies do their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 Government: Council-Manager Form (Weak Execu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uncil manager form of city government, the voters elect a city council that appoints a city mana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cil establishes laws, and the city manager is responsible for appointing the heads of city governments and for seeing that they carry out their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ty Government: Commissioner Form (No Executiv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ities with a commissioner form of government, the voters elect commissio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ommissioner is the head of a department within the city government, and an executive could be elected by the commissioners from among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urpose Distr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urpose Districts provide services and have their own set of regulations governing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urpose districts are created for a single job or single group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choo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RTA- Metropolitan Atlanta Rapid Transit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Public Housing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ire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arks and Recreation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irport and Por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I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s AV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ment Via Individual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WICOR?  (writing, inquiry, collaboration, organization, rea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Collaboration Activity:  Create a cartoon about the historical period (pages 13-18 in CRCT book). The cartoon should reflect the Paleo, Archaic, Woodland and Mississippian time periods. Your cartoon should include at least 10 picture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Govern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City and Count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335112"/>
          <p:cNvPicPr/>
          <p:nvPr/>
        </p:nvPicPr>
        <p:blipFill>
          <a:blip r:embed="rId1"/>
          <a:stretch/>
        </p:blipFill>
        <p:spPr>
          <a:xfrm>
            <a:off x="4114800" y="464832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rgia Performance Standard SS8CG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udent will analyze the role of local governments in the state of Georg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xplain the origins, functions, purposes, and differences of county and city governments in Georg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Compare and contrast the weak mayor-council, the strong mayor-council, and the council-manager forms of city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Describe the functions of special-purpose govern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Branches of Governmen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Top to Bottom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- President, VP, Cabi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islative- Congress (Senate &amp; House of Represent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icial- Federal Cou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ve- Governor, Lt. Governor, Executive Off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islative- Georgia’s General Assembly (Senate &amp; House of Representa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icial- State Cou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l (Cou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ecutive- Chairman of the Board of Commiss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gislative- Board of Commiss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udicial- County Courts (ex. Probate Cou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-Pair 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 three branches keep one branch from being too power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3 Branches of Government: </a:t>
            </a:r>
            <a:br>
              <a:rPr sz="4000"/>
            </a:b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“Top to Bottom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 (County Scho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utive- Superint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gislative- Board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udicial- Works with Juvenile Justic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cal (City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Example: Mayor-Counci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utive-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gislative- City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udicial- Municipal Court System (Traffic Cou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Gover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ocal governments are the most numerous of all governments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orgia has 159 counties, and each of the counties has a governmental organization. Counties are subdivisions of the state, set up to carry out government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 addition to the counties, there are many cities in Georgia. Each of them has a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Not only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cal govern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numerous forms of governance, the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 also the closest to the people and the most likely to affect the people direc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y Govern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Tax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ounty government taxes provide funding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unty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Police (The Sheriff’s Depar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. Court and leg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. Construction and maintenance of roads and b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. Public health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. Medical assistance (for the poor and dependent child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. Parks/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. Public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51:47Z</dcterms:created>
  <dc:creator>Paulding</dc:creator>
  <dc:description/>
  <dc:language>en-US</dc:language>
  <cp:lastModifiedBy>Nicka Grimes</cp:lastModifiedBy>
  <dcterms:modified xsi:type="dcterms:W3CDTF">2016-01-21T19:12:56Z</dcterms:modified>
  <cp:revision>42</cp:revision>
  <dc:subject/>
  <dc:title>Local Government  (City and County)</dc:title>
</cp:coreProperties>
</file>